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521-45D0-4357-9D08-3BF92834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0AD-301A-461D-94EB-F3655EB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508-2476-417F-A3F5-912987E6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517-29FA-409E-B5F6-5D59CEB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785-2487-4237-AE2C-9EAD056F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E12-4530-46C3-9060-DD52CD3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D7C-186F-4C24-B897-DD1AD74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3B3-EA28-4DD0-AEE8-F6593E4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950-FF78-4D72-9620-54BC08A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C91-5492-4529-94B6-B7AFB95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C86-73E4-4249-BAEE-446DEB5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21C-01C2-491B-9AFE-FE39196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2944-DBE2-4273-8220-3345E02C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= Distance/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ich is a spe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s per li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grees per sec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Kilometers per h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utes per 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independent variabl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seeds grows the fastes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it take a plant to flower?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 is the average rate of plant growth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lants grow better in sunlight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3059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mass of ten of the same type of plant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each seed in a pot of soil and place in sunny win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plant the same amount of water each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mass of each plant at the end of each week for the next two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on of 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rade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523880" y="6019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ne remained constant in her sp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 added water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) to glasses and tapped the glasses with a pencil to make musical notes.  She adjusted the water levels in the glasses until the pitches of the notes matched the eight notes of a musical scale.  Which information is most important to include in her report so another student can repeat 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volume of water placed in each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ngth and mass of the pencil used to tap each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e and location of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’s previous experience with making musical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54:56Z</dcterms:created>
  <dc:creator>Sterling Grade School</dc:creator>
  <dc:description/>
  <dc:language>en-US</dc:language>
  <cp:lastModifiedBy>Sterling Grade School</cp:lastModifiedBy>
  <dcterms:modified xsi:type="dcterms:W3CDTF">2010-04-19T16:55:28Z</dcterms:modified>
  <cp:revision>3</cp:revision>
  <dc:subject/>
  <dc:title>Slide 1</dc:title>
</cp:coreProperties>
</file>